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6C1-E591-4B6E-AEF1-0EE33C2E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8DE1-4BA2-4348-BA92-F3356042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37AC-9602-4326-AC5B-B9F541A8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F219-A93E-42DD-9412-0FD0D47F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2BE-3918-48F6-A0F3-A0BE325D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6602-ABAB-45BB-B6C2-E2C5D23B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3B0D-38FB-480C-A266-DF058F38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BBA3-E91A-41E8-A136-D19ACDF4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031-CBEE-47B2-8B2E-22BE25C2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CBCA-2A41-4F06-8679-508E7CF4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DBC7-84F9-458A-B9CD-8BC33038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FB0-8EBD-465D-B92E-7C231AE4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5005-7CE4-4A3E-BFAB-9A87ECCAA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5080" y="735120"/>
            <a:ext cx="70020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ord Reign In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all the earth You reign on high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 mountain stream, every sunset s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my one request, Lord my only ai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at You reign in me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 reign in me, reign in Your pow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all my dreams, in my darkest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the Lord of all I 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won’t You reign in me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89120" y="735120"/>
            <a:ext cx="7875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ord Reign In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every thought, over every w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my life reflect the beauty of my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ean more to me than any earthly th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won’t you reign in me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 reign in me, reign in Your pow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all my dreams, in my darkest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the Lord of all I 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won’t You reign in me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51400" y="735120"/>
            <a:ext cx="59504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You're Worthy of My P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worship (echo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all of my heart. (e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praise You (ech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all of my strength. (all my str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seek You (echo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of my days. (e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follow (echo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of Your ways. (all Your w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give You all my worship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give You all my prai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lone I long to worshi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lone are worthy of   my pra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6880" y="735120"/>
            <a:ext cx="62784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You're Worthy of My P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bow down (ech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il You as King. (e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serve You (ech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 You ev'rything, (give You ev - 'ry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lift up (ech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 eyes to Your throne, (e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trust You (ech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trust You alone. (trust You a – l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give You all my worship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give You all my prai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lone I long to worshi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lone are worthy of my pra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5240" y="711360"/>
            <a:ext cx="82929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re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is the air I breathe, This is the air I breath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holy presence, living in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is my daily bread, This is my daily brea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very Word, spoken  to m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........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'm desperate for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........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'm lost without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59520" y="735120"/>
            <a:ext cx="6340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 Sing Pra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sing praises to Your name,  O Lord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ises to Your name,  O Lor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your name is gr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greatly to be praise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43200" y="633240"/>
            <a:ext cx="577368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O Sacred 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sacred King,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holy King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an I honour you rightl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nour that’s fit for your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sacred Friend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holy Frie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don't take what you give lightl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iendship instead of disgr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53720" y="633240"/>
            <a:ext cx="735264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O Sacred 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its the mystery of the univers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the God of holines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yet you welcome souls like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with the blessing of the Fathers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discipline the ones you lov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’s kindness in you maje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, those who recognize your pow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just how wonderful you a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you draw 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1-10-14T14:49:25Z</dcterms:modified>
  <cp:revision>33</cp:revision>
  <dc:subject/>
  <dc:title>No Slide Title</dc:title>
</cp:coreProperties>
</file>