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66B-5C34-4A13-8B11-140ACA85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CE8-75FE-440B-9DF3-9B9CD06B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FAF-1549-4B5A-A4A2-5E84ED54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9FD-375B-4FA8-8C0C-156B4D99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EC6-C404-45CD-A893-35449974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F19-1001-4AAF-B79B-102269BD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6ED-4FA3-4C6D-8874-1B697CEB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4591-D6AD-4011-8853-9DA2CE8B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ABD-17A1-40F0-ADAB-BF9432D3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425A-61F7-4D1C-B2FB-F3B89C49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B8A-06AB-4D57-A19E-25D5F280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CA6D-0B52-4E71-9DCE-84A4CD38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4C16-8DD6-43D4-9A74-9C830ED9F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1920" y="633240"/>
            <a:ext cx="8793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 Has Made Me G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enter His gates with thanksgiving in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enter His courts with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say this is the day that the Lord has ma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as made me glad, He has made me gl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as made me glad, He has made me gl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4280" y="633240"/>
            <a:ext cx="79272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urely The Pres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ly the presence, of the Lord is in thi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 feel His mighty power, and His g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 hear the brush of angel’s w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glory com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ly the presence of the Lord is in thi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69400" y="633240"/>
            <a:ext cx="7730640" cy="52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e Exalt Th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ou O Lord art high, Above all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ou art exalted far above all g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we exalt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Oh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worth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ho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deer panteth for the wa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my soul longeth after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oh Lord, are my heart’s des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0480" y="633240"/>
            <a:ext cx="717732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’re my friend and You are my broth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though You are a 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you more than any oth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much more than any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You more than gold or silv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You can satis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the real joy giv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apple of my ey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53240" y="633240"/>
            <a:ext cx="49507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pen Our 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,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ach out and touch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say that we love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ar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elp us to list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72840" y="633240"/>
            <a:ext cx="45133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pen Our 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,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ow down before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ove and adore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hearts, 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elp us to love Hi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84640" y="633240"/>
            <a:ext cx="468432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God Al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in the mor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song shall rise to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iful and 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in three Person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ssed Tri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38440" y="633240"/>
            <a:ext cx="5974920" cy="54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e saints adore The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ting down their golden crow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ound the glassy s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erubim and seraphi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lling down before The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were and ar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more shall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67880" y="633240"/>
            <a:ext cx="611820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God Al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y works shall praise Thy n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arth and sky and 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iful and 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in three Pers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ssed Tri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9-20T05:47:09Z</dcterms:modified>
  <cp:revision>23</cp:revision>
  <dc:subject/>
  <dc:title>No Slide Title</dc:title>
</cp:coreProperties>
</file>