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107-20A2-4C7B-B02A-FF9BB1B0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CE6-8ECF-47CC-A1D3-76545D3F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4DF-267F-4676-950C-8C84D1C7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B04-1C5F-441B-B90B-0E1C7637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504-30D9-434F-8A59-DB73F5F8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63A-86A2-4A91-A5C7-16254CE6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C36-A6F9-4268-BE99-D31940BE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B8B-8402-428D-BCC2-38575172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FF8-2DDD-4808-A1CB-872A8EAD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4F4-9F8A-4A9D-BEC3-29D31F2E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F935-04C0-4F26-B41E-87BEB22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FC7-7FA1-4514-983D-82AA248F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8678-5708-4743-AA8A-EAB8DA2D4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6720" y="380880"/>
            <a:ext cx="771696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Could Sing of Your Lo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 the mountains and seas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river flows with love for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will open up My he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let the healer set me f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’m happy to be in the trut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I will daily lift my hand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I will always s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 when your love came d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ould sing of your love forev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ould sing of your love for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533520"/>
            <a:ext cx="8175600" cy="52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her I come to you, lifting up my hand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name of Jesus, by Your grace I 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because you love me, and I love your S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533520"/>
            <a:ext cx="817560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receive your favor, Your unending lov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because I’ve earned it, not for what I’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because you love me, and I love your S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know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380880"/>
            <a:ext cx="817560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Undending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s the presence of your Kingdom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your glory fills this place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see how much you love 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I look into your f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hing could be bet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’s nothing I would trad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r favor, unending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-end-ing  l-o-v-e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un-end-ing l-o-v-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REPEAT)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62960" y="633240"/>
            <a:ext cx="6730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ace of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ght is shining in the dark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light is shining in our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s us to see, the face of Chris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the Anoint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God, we see Your gl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ace of Jesu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God, we see Your beau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ace of Jesus,  our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ee your face oh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3360" y="633240"/>
            <a:ext cx="77137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ace of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ght is shining in the dar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light is shining in our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s us to see, the face of Christ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the Anoint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h God, we see Your glory, in the face of Jesus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h God, we see Your beau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 our Savior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our King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our Heale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 see your face Oh G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7-19T04:58:53Z</dcterms:modified>
  <cp:revision>12</cp:revision>
  <dc:subject/>
  <dc:title>No Slide Title</dc:title>
</cp:coreProperties>
</file>