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9F4-F738-4458-9984-0FB52A8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A39-4571-41F7-82B2-E289F308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6AC-0E90-49D2-8AB8-423C00FD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4AE-1611-4367-A7BF-15C5F373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D68C-533B-4DE4-96C5-88A2410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9F36-2227-4B14-BC31-674C839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79F-2C8A-483E-9405-EFEBE5FC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5113-0594-4CBD-B0F4-36217B0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99B-5997-4B69-AA97-5598A177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EC3-4857-4C93-B7FE-10FB44C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BEB-27FA-4CEB-A5FD-3F59912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AFC-A798-4657-8DB4-04623F4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F8AC-8DEF-4969-81E3-39B1560A2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85880" y="633240"/>
            <a:ext cx="789984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,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 You are my Lord..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w I feel the sacred flam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 the joy of full salvation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lory, glory to His n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0280" y="633240"/>
            <a:ext cx="587592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urrender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Jesus, I surrender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o Him I freely gi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will ever love and trust Hi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His presence daily l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, I surrender Al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the to thee, my blessed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urrender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81560" y="633240"/>
            <a:ext cx="78998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ld behind me, the cross before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14320" y="633240"/>
            <a:ext cx="783288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pirit in me, Your love surrounds m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7080" y="633240"/>
            <a:ext cx="61412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Have Deci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have decided to follow Jesu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urning back, no turning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62320" y="633240"/>
            <a:ext cx="83311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wesome In This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we come into your presence, past the gates of prai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o your sanctuary, ‘till we’re standing face to 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look upon your countenanc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see the fullness of Your gr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can only bow down and say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 Abba Fath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worthy of all praise, to you our lives we rais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re awesome in this place, mighty God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59120" y="633240"/>
            <a:ext cx="55512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tiphonal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mighty God (almight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You alone (in You a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our delight (is our delig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orship you (we worship y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 holy God (oh holy G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lift our voice (and lift our v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ing your praise (to sing your pra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luia, allel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51:02Z</dcterms:modified>
  <cp:revision>23</cp:revision>
  <dc:subject/>
  <dc:title>No Slide Title</dc:title>
</cp:coreProperties>
</file>