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01DA-6855-4FDB-BAFA-94C0BD27E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3EF4-D013-49E0-9A79-B1C43858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A8F1-28BA-4A36-AD85-C1414F1F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3A7-29A2-4428-B32F-399ED9F2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C4D-E096-48E3-BC04-6926D0A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035-BFD1-4557-9C7B-027AE244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72C2-8631-4281-BD1E-190A37CD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4C66-25CB-4103-A6BC-9D2B6AED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06A-B162-482C-8772-7C6A7888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190-2B67-4F95-8424-A7C56B2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4F3-7093-4873-A71A-A6436E64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6DB0-145A-4796-9130-59A77699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0E54-84B5-46D9-B0F9-F2729217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25080" y="735120"/>
            <a:ext cx="7002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the earth You reign on hig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 mountain stream, every sunset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t my one request, Lord my only a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tha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89120" y="735120"/>
            <a:ext cx="7875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rd Reign In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every thought, over every w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y my life reflect the beauty of my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ean more to me than any earthly th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reign in me, reign in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all my dreams, in my darkest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Lord of all I a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won’t You reign in me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51400" y="735120"/>
            <a:ext cx="5950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worship (echo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heart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prais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all of my strength. (all my streng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ek You (ech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my days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follow (echo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Your ways. (all Your w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 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6880" y="735120"/>
            <a:ext cx="62784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You're Worthy of My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bow down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il You as King.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serve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 You ev'rything, (give You ev - 'ry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lift up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 eyes to Your throne, (ec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(ech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trust You alone. (trust You a – l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worship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ill give You all my prais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I long to worsh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alone are worthy of my pra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240" y="711360"/>
            <a:ext cx="82929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the air I breathe, This is the air I breath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holy presence, living in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is my daily bread, This is my daily brea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very Word, spoken  to m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desperate for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.......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'm lost without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59520" y="735120"/>
            <a:ext cx="63406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 Sing Pra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ing praises to Your name,  O Lord,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ises to Your name,  O Lo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your name is gre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greatly to be praised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43200" y="633240"/>
            <a:ext cx="577368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King,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King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can I honour you r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nour that’s fit for your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sacred Friend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holy Frie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don't take what you give lightl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hip instead of dis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53720" y="633240"/>
            <a:ext cx="735264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 Sacred 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ts the mystery of the univers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the God of holines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yet you welcome souls like 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with the blessing of the Fathers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iscipline the ones you lov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’s kindness in you majes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those who recognize your pow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just how wonderful you 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you draw n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1-10-14T14:48:57Z</dcterms:modified>
  <cp:revision>33</cp:revision>
  <dc:subject/>
  <dc:title>No Slide Title</dc:title>
</cp:coreProperties>
</file>