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7C4-62CB-4A37-AAAE-C9EC2F4D7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E210-765A-4DA0-9376-07BD6474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C6D0-540D-49D3-AEB7-3288C249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6834-FB94-41C2-BEB5-559B5D65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C021-6662-4C77-A64A-B7B9CCF6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87BE-E4B3-401B-9A33-220C47C3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5BF3-F1A2-4951-AEAE-0F5987C0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0E24-DE66-4412-8239-3BBF6FCD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807E-04B8-45CB-9F81-E72C0727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3012-3F39-4EB8-B18B-14AB1149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2F5-6A99-4029-B65D-C121003A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ECEF-C710-4DD9-8438-1616717F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760A-0C19-43DA-9AC0-14CD96417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1880" y="633240"/>
            <a:ext cx="8713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Let the River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lost man say I am found in Him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poor man say I am rich in Him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h, let the river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blind man say I can see agai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dead man say I am born agai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river flow. Let the river fl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15880" y="633240"/>
            <a:ext cx="84254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Let the River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river flow, let the river flow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ly Spirit come, and move in power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d let the river flow (echo)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river flow (echo)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river flow (echo)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t the river fl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70480" y="633240"/>
            <a:ext cx="771696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Could Sing of Your Love For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 the mountains and se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river flows with love for 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will open up My heart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the healer set me fre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’m happy to be in the truth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will daily lift my hands;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I will always sing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 when your love came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*I could sing of your love forev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could sing of your love for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44640" y="633240"/>
            <a:ext cx="577224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Who At My Do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at my door is stand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tiently drawing 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rance within He is asking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is that voice I h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weetly the tones are fall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n the door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you will heed my call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ill abide with th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07840" y="633240"/>
            <a:ext cx="604800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Who At My Do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ely without He is standing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ely within am I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le I am still delaying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 He not pass me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weetly the tones are fall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n the door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you will heed my call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ill abide with th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35160" y="633240"/>
            <a:ext cx="69868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You Are My All in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my strength when I am weak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the treasure that I seek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my all in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eking You as a precious jewe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rd to give up  I’d be a fool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my all in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, Lamb of God, worthy is your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, Lamb of God, worthy is your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33360" y="633240"/>
            <a:ext cx="69868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You Are My All in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ing my sin, my cross, my sham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ing again I bless your nam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my all in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I fall down, You pick me up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I am dry, You fill my cup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are my all in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, Lamb of God, worthy is your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sus, Lamb of God, worthy is your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69800" y="633240"/>
            <a:ext cx="49186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ll That Is Within 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I want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I want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 Lord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I want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all my hear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my sou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min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all of my strength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(know, love, serve, s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McDonalT</cp:lastModifiedBy>
  <dcterms:modified xsi:type="dcterms:W3CDTF">2000-12-13T21:42:05Z</dcterms:modified>
  <cp:revision>10</cp:revision>
  <dc:subject/>
  <dc:title>No Slide Title</dc:title>
</cp:coreProperties>
</file>