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D742-1BF2-4370-97AA-12186328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4A0-0E68-439C-A6E5-5A514105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555-E4EC-4BFC-B338-D6E925CA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6F66-7EC5-4FE1-BBCC-93B09AFA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D75-FD4D-45B1-8643-5FBDD171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171-6D6B-4514-8DB9-BAEBAB6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026-6466-42AD-A9C7-EA7F238D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A4A-6309-42A5-950C-7225E7D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F11-65A5-4174-9F61-DDC319E9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60F4-8879-4E76-99D8-2F834C0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C14-7BAA-4CEB-A61F-35574C6A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774D-3F63-43FC-A25D-FE8A27E4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B625-BEAA-40F2-87D6-7DD769952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609480"/>
            <a:ext cx="83059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Here Is L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 the mount of crucifix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tains opened deep &amp; wid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ough the floodgates of God’s mercy flowed a vast and gracious tid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ce and love like mighty rive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ured incessant from ab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aven’s peace and perfect jus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ssed a guilty world in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920" y="633240"/>
            <a:ext cx="883224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Will Give Th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thanks to the Lord according to His righteous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thanks to the Lord according to His righteous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ing praise to the name of the Lord Most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ing praise to the name of the Lord Most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2600" y="633240"/>
            <a:ext cx="85366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Will Give Tha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exalted above all heaven and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are exalted above all heaven and ear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 above all other g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r above all other g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Lord, our L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majestic is your name in all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10160" y="304920"/>
            <a:ext cx="9542520" cy="63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We Lift Your Name on Hi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, we lift your name on hig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, we love to sing your pra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so glad You’re in our liv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’re so glad You came to save 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came from heaven to earth to show the w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earth to the cross, our debt to pa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grave to the sk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om the cross to the grav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, we lift your name on high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351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strength when I am wea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treasure that I see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ing You as a precious jew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to give up  I’d be a foo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333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my sin, my cross, my sh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ing again I bless your n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fall down, You pick me 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am dry, You fill my c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5080" y="633240"/>
            <a:ext cx="880668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w Great Thou 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Lord my God, when I in awesome w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der all the works thy hands have m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see the stars, I hear the rolling th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y pow'r throughout the universe displa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,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75400" y="609480"/>
            <a:ext cx="970272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w Great Thou 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Christ shall come with shout of accla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ake me home, what joy shall fill my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I shall bow in humble ad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there proclaim, my God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n sings my soul, my Savior God, to T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great Thou art, how great Thou 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609480"/>
            <a:ext cx="79246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Here Is Lo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e is love, vast as the ocea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vingkindness as the fl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en the prince of life our ransom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hed for us his precious bl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his love will not rememb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o can cease to sing His prais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 can never be forgot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oughout heav’ns eternal day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6-14T12:48:08Z</dcterms:modified>
  <cp:revision>13</cp:revision>
  <dc:subject/>
  <dc:title>No Slide Title</dc:title>
</cp:coreProperties>
</file>