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5732-1C84-4170-85AD-E11D35E03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4EE4-5B9C-4361-9F86-A27DF1285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A4C3-6E42-4631-857F-0C483607F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A277-1577-43BA-A0C1-45BFD7C51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D6EE-4FF5-4A2B-A0AB-749A4DC62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7AA8-A9DE-4C36-BD7A-9C1A3ACEF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B6AB-2320-4D0B-8516-21EA9B473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9F6A-ABE2-4C13-BBDB-44E5A1758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37E0-BC7A-4730-BADE-ACB8DE62F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26A6-DDD0-4926-9388-63307A46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966B-17AD-4DA6-9C6F-51BBEFB0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7723-34F7-41B0-9CB3-7C09E74D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FC858-006F-4AE0-A9D7-A8B7992F3E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88840" y="633240"/>
            <a:ext cx="5877360" cy="56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Let the River Fl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t the lost man say I am found in Him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t the poor man say I am rich in Him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h, let the river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t the blind man say I can see agai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t the dead man say I am born agai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t the river flow. Let the river f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t the river flow, let the river flow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ly Spirit come, and move in power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d let the river flow (echo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t the river flow (echo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t the river flow (echo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t the river f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544760" y="660240"/>
            <a:ext cx="6366600" cy="57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ffffff"/>
                </a:solidFill>
                <a:uFillTx/>
                <a:latin typeface="Tahoma"/>
              </a:rPr>
              <a:t>Trust and Obe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we walk with the Lor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the Light of His w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 glory He shed on the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le we do His good wil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abides with us st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with all who will trust and ob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ust and obey for there's no other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be happy in Jesu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to trust and ob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44760" y="660240"/>
            <a:ext cx="6366600" cy="57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ffffff"/>
                </a:solidFill>
                <a:uFillTx/>
                <a:latin typeface="Tahoma"/>
              </a:rPr>
              <a:t>Trust and Obe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a burden we bea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a sorrow we sh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our toil He doth richly rep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a grief nor  a  los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a frown nor a cr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is blest if we trust and ob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ust and obey for there's no other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be happy in Jesu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to trust and ob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44760" y="660240"/>
            <a:ext cx="6366600" cy="57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ffffff"/>
                </a:solidFill>
                <a:uFillTx/>
                <a:latin typeface="Tahoma"/>
              </a:rPr>
              <a:t>Trust and Obe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n in fellowship swe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will sit at His fe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 we'll walk by His side in the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He says we will do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He sends we will 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ver fear only trust and ob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ust and obey for there's no other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be happy in Jesu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to trust and ob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2280" y="633240"/>
            <a:ext cx="8778960" cy="53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In The Secr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the secret, in the quiet plac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the stillness you are there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the secret, in the quiet hour I wait, only for you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use I want to know you mo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ant to know you,  I want to hear your voic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ant to know your m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ant to touch you,  I want to see your fac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ant to know your m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633240"/>
            <a:ext cx="8610480" cy="57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In The Secr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am reaching for the highest goal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at I might receive the priz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sing onward, pushing every hindrance asid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ut of my way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use I want to know you mo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ant to know you, I want to hear your voic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ant to know your m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ant to touch you, I want to see your fac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ant to know your m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69800" y="633240"/>
            <a:ext cx="491868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All That Is Within 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, I want to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know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You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, I want to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know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You Lord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, I want to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know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th all my heart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my soul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mind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all of my strength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(know, love, serve, se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306520" y="633240"/>
            <a:ext cx="485496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We Exalt Th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exalt thee, we exalt th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exalt thee, Oh L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are worth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are hol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1T22:52:38Z</dcterms:created>
  <dc:creator>Todd McDonald</dc:creator>
  <dc:description/>
  <dc:language>en-US</dc:language>
  <cp:lastModifiedBy>Todd McDonald</cp:lastModifiedBy>
  <dcterms:modified xsi:type="dcterms:W3CDTF">2000-08-02T23:02:52Z</dcterms:modified>
  <cp:revision>16</cp:revision>
  <dc:subject/>
  <dc:title>No Slide Title</dc:title>
</cp:coreProperties>
</file>