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509-A699-4E6B-87F2-CCE23DC8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133-CC54-4750-A0E4-0A215BBE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348-3DC7-4D56-974A-D1086CCE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5CA-5490-4969-AF39-1C880DEC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F11-AF5D-4BD6-A8D9-FDC61897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F4D-1BBF-406A-9E04-5AAA3D43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F101-C0C5-4EBE-902A-742CDF0A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94F-2A31-4C17-B343-E8BC780E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8F39-ABDB-4DA1-A58C-5072CB99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29B-D94C-43A6-A585-43167C1D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B45-C515-4403-BB8B-4E306DC1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8C7-B97F-45F2-A849-76E99F4E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AB00-6C56-4C13-B5DD-ACA5D37ED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05920" y="685800"/>
            <a:ext cx="7244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ake My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ness, holiness is what I lo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ness is what I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ness, holiness is what You want from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take my heart and form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mind transform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will conform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Yours, to Yours, oh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aithfulness..., Righteousness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81756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I come to you, lifting up my hand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name of Jesus, by Your grace I 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because you love me, and I love your S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533520"/>
            <a:ext cx="8175600" cy="54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receive your favor, Your unending lo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because I’ve earned it, not for what I’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because you love me, and I love your S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33520"/>
            <a:ext cx="817560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art of W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the music fades, All is stripped awa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d I simply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nging just bring, something that’s of worth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at will bless your 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’ll bring you more than a so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a song in itsel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not what you hav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search much deeper 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ough the way things appe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’re looking into 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33520"/>
            <a:ext cx="817560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art of W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coming back to the heart of worship, and it’s all about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about you,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sorry Lord for the thing I’ve mad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it’s all about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’s all about you,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533520"/>
            <a:ext cx="817560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art of W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ing of endless worth, no one could expres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much you de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ough I’m weak and poor, all I have is your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very single br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’ll bring you more than a so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 a song in itsel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s not what you hav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 search much deeper with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ough the way things appe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ou’re looking into my 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817560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art of Wo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coming back to the heart of worship, and it’s all about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about you,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sorry Lord for the thing I’ve made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it’s all about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’s all about you,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533520"/>
            <a:ext cx="817560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praises to Your name,  O Lord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s to Your name,  O Lo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r name is gr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ly to be prai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give glory to your nam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8-31T00:08:52Z</dcterms:modified>
  <cp:revision>18</cp:revision>
  <dc:subject/>
  <dc:title>No Slide Title</dc:title>
</cp:coreProperties>
</file>