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C6ED-4AEC-419F-9E13-97848994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DCC-A301-4814-849D-1327545B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7DC0-7685-4DBF-B736-90EB8D43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051C-F9C5-4ED8-95A7-0AB7A1B7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B952-CD56-42B0-B109-801BB8E6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8AF-3559-4BBD-981A-A232EA8B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4106-AD52-4D9A-B349-B66A27F7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78EC-066F-4359-BA29-E284E617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2E39-8257-45AF-B11E-96005C6E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4581-C3F7-4E24-855A-284053BA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DD9-85C2-432E-B344-5AEA856B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DA94-B78E-419C-B6FC-87FA187E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0C92-DCCC-4D52-8E9C-B313A9061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5000" y="685800"/>
            <a:ext cx="7029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Blessed Be The Name of the L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ssed be the name of the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ssed be the name of the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essed be the name of the Lord Most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ame of the Lord is a strong T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ighteous run into it and they are sa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ry to the nam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y is the nam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sus is the nam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68960" y="380880"/>
            <a:ext cx="607248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Take My Life and Let It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y life and let it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crated Lord to Th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y hands and let them mo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impulse of Thy 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 the impulse  of    thy   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y feet and let them be 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ft and beautiful for Th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y voice and let me 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only for my 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 only  for   my   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68960" y="380880"/>
            <a:ext cx="607248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Take My Life and Let It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y lips and let them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led with messages for Th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y silver and my go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mite would I withh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mite would I    with   h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y life and let it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crated Lord to Th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my self and I will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 only all for Th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 only all    for    th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4120" y="633240"/>
            <a:ext cx="778536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More Love, More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Love (more love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Power (more power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of You in my lif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worship You with all of my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worship You with all of my mi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worship you with all of my str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You are my Lord (You are my L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s, You are my Lord (You are my Lord)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533520"/>
            <a:ext cx="8175600" cy="53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Sing Prai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sing praises to Your name,  O Lord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ises to Your name,  O Lord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your name is gre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greatly to be prai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give glory to your name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533520"/>
            <a:ext cx="817560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Allelu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elu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elu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elu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elu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08-16T23:29:05Z</dcterms:modified>
  <cp:revision>16</cp:revision>
  <dc:subject/>
  <dc:title>No Slide Title</dc:title>
</cp:coreProperties>
</file>