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EB9E-9A2A-49A4-BA02-B5317D8BF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7D0F-59BA-4A1E-8782-BC53F5A2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C435-5139-4EE2-AA22-65272F642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C106-F6E5-42D3-BDD5-118A4E035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98A5-1798-4CE3-8D1A-0402F57B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FAA1-5A0B-4417-B930-2296AB55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FA2F-8A4D-405C-9B2F-58FDDA2A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C4A5-B617-4E40-92A0-25700002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D657-A4D8-4C48-A81D-E0E56EA7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22AB-B9B7-4FDE-8FAB-2F6167D9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0261-2362-4A97-A285-901BDEFC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C69B-AF59-45B1-A386-D6C22398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E722-122D-4983-A079-9429B6458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4200" y="304920"/>
            <a:ext cx="835236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Lord We Lift Your Name on Hig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rd, we lift your name on high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rd, we love to sing your prai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’re so glad You’re in our liv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’re so glad You came to save U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came from heaven to earth to show the wa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the earth to the cross, our debt to pa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the cross to the grav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m the grave to the sk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rd, we lift your name on hig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73360" y="633240"/>
            <a:ext cx="7713720" cy="55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Face of Je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light is shining in the dark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light is shining in our he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powers us to see, the face of Christ,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sus the Anointed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Oh God, we see Your glory, in the face of Jesus.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Oh God, we see Your beau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 the face of Jesus,    our Savior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 the face of Jesus,   our King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 the face of Jesus,   our Healer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 see your face Oh Go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609480"/>
            <a:ext cx="914400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Exalt The Lo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alt,  the Lord our God…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echo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xalt, the Lord our G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worship at His feet...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(echo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nd worship at His f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REPE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He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or 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HOL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the Lord, our God, He is (You Are) Hol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REPE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609480"/>
            <a:ext cx="754380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Tis So Sweet to Trust In Je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s so sweet to trust in Jesu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st to take Him at His word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st to rest upon His promis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st to know thus saith the L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, Jesus, how I trust Him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I’ve proved Him o’er and o’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, Jesus, precious Jesu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 for grace to trust Him m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341360" y="633240"/>
            <a:ext cx="677520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Tis So Sweet to Trust In Je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h how sweet to trust in Jesu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st to trust His cleansing blood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st in simple faith to plunge m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ath the healing cleansing f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, Jesus, how I trust Him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I’ve proved Him o’er and o’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, Jesus, precious Jes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 for grace to trust Him m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41360" y="633240"/>
            <a:ext cx="677520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Tis So Sweet to Trust In Je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s ‘tis sweet to trust in Jesu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st from sin and self to c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st from Jesus simply ta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fe and rest and joy and pe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, Jesus, how I trust Him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I’ve proved Him o’er and o’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, Jesus, precious Jesu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 for grace to trust Him m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6440" y="633240"/>
            <a:ext cx="684504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Tis So Sweet to Trust In Je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’m so glad I learned to trust Him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cious Jesus, Savior, Friend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I know that He is with m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 be with met to the 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, Jesus, how I trust Him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I’ve proved Him o’er and o’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, Jesus, precious Jesu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 for grace to trust Him m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633240"/>
            <a:ext cx="877896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n The Secr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secret, in the quiet pla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stillness you are there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secret, in the quiet hour I wait, only for you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use I want to know you mo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know you,  I want to hear your voi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know your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touch you,  I want to see your fa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know your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633240"/>
            <a:ext cx="861048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n The Secr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am reaching for the highest goa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t I might receive the priz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sing onward, pushing every hindrance asid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ut of my wa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use I want to know you mo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know you, I want to hear your voi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know your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touch you, I want to see your fa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know your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633240"/>
            <a:ext cx="877896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n The Secr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secret, in the quiet pla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stillness you are there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secret, in the quiet hour I wait, only for you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use I want to know you mo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know you,  I want to hear your voi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know your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touch you,  I want to see your fa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to know your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362960" y="633240"/>
            <a:ext cx="673092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Face of Je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light is shining in the darkn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light is shining in our he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powers us to see, the face of Chris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sus the Anointed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h God, we see Your glor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face of Jesu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h God, we see Your beaut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face of Jesus,  our Savio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see your face oh G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22:52:38Z</dcterms:created>
  <dc:creator>Todd McDonald</dc:creator>
  <dc:description/>
  <dc:language>en-US</dc:language>
  <cp:lastModifiedBy>Todd McDonald</cp:lastModifiedBy>
  <dcterms:modified xsi:type="dcterms:W3CDTF">2000-07-06T00:08:44Z</dcterms:modified>
  <cp:revision>20</cp:revision>
  <dc:subject/>
  <dc:title>No Slide Title</dc:title>
</cp:coreProperties>
</file>