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B10-85C0-4FD8-BFA7-04909E64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BF9-8D25-4EE6-A51D-CB6A16F7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D600-2676-4C22-AA3A-D464083C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CD6-1CD6-4535-ADF4-B85DD7FF9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FAF-5A80-43D8-B4FC-544155CB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605-34CF-49A4-A791-CDFB3856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8AD-FB20-4C9F-A7FD-837DFB01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9F6-B5F8-4F7A-B892-55061CE0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CF5-055E-47D3-8700-094FE407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94E-0D3D-4366-A610-B39270BF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CFB-89B4-4FD0-9637-A5B3CB30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C4F-6302-40DF-A177-52246AF8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527C-5302-48CD-9B22-9C96DFE66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80880"/>
            <a:ext cx="871056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Blessed Be The Name of the Lord 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This Is Th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ed be the name of the Lord (2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essed be the name of the Lord Most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me of the Lord is a strong t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ighteous run into it and they are 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ry to the nam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ly is the nam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sus is the name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day (2x) That the Lord hath made..(2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rejoice (2x) And be glad in it (2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, this is the day that Lord hath made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will rejoice and be glad in 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day (2x), that the Lord hath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46720" y="380880"/>
            <a:ext cx="771696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Could Sing of Your Love For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 the mountains and seas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river flows with love for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I will open up My he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let the healer set me f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happy to be in the trut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I will daily lift my hand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 will always s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when your love came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could sing of your love forev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could sing of your love for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30680" y="633240"/>
            <a:ext cx="739368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ee The L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see the Lord and his train fills the templ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see the Lord, he is high and lifted 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ls cry holy, holy is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ls cry holy, holy is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09480"/>
            <a:ext cx="914400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ee The L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see the Lord and his eyes are flaming like fir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see the Lord, and his hair is white as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ls cry holy, holy is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ls cry holy, holy is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9760" y="633240"/>
            <a:ext cx="844092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ee The L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ngel came and touched the coal to my lip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y guilt is gone and my sin has been forg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ls cry holy, holy is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ls cry holy, holy is the Lo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the temple is filled with the glory of God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the whole earth is filled with the glory of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41000" y="633240"/>
            <a:ext cx="6773400" cy="38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ee The L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calls to me, "Whom shall we send?"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answer Him, " I will go for you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ls cry holy, holy is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els cry holy, holy is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69800" y="633240"/>
            <a:ext cx="4918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ll That Is Within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 Lord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ll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y sou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i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ll of my strength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know, love, serve, s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10-08T22:48:26Z</dcterms:modified>
  <cp:revision>27</cp:revision>
  <dc:subject/>
  <dc:title>No Slide Title</dc:title>
</cp:coreProperties>
</file>