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6F9-3284-49AC-AF6B-E53244D5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DD77-C998-42FB-AD0D-48F5825F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55E-B708-4F7A-8571-120684F8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EDF-90AC-465D-8F41-B538BEF7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F9D-E4A7-4824-BA05-9A828D2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F772-39BE-481A-A5F0-082E96E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5EA-12BC-4E23-9E9A-92F7C5B8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F8B4-9A3F-4C00-9319-CD27D474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FCD-5863-4DA2-A13B-A3A6BD49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11F-D3E1-47CF-B27D-5AB8C2AC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C2C1-6F68-4E89-B7B5-02C33795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B5D-C6E1-4598-AA13-ACA75AB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1C99-FC4C-4141-B7C3-AA1DE7627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920" y="633240"/>
            <a:ext cx="8793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e Has Made Me Gl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gates with thanksgiving in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enter His courts with pra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say this is the day that the Lord has mad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has made me glad, He has made me gla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rejoice for He has made me gl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06520" y="633240"/>
            <a:ext cx="4854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e Exalt Th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we exalt th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exalt thee, Oh L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worth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hol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deer panteth for the wa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y soul longeth after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oh Lord, are my heart’s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ant You more than gold or sil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You can satis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the real joy giv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the apple of my ey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27760" y="633240"/>
            <a:ext cx="660276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s The De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the deer panteth for the wa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 my soul longeth after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oh Lord, are my heart’s des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strength and shiel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You alone may my spirit yi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lone are my heart’s desir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long to worship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53240" y="633240"/>
            <a:ext cx="4950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reach out and touch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say that we love H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ar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ist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472840" y="633240"/>
            <a:ext cx="45133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Open Our Ey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,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bow down before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ve and adore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hearts, 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help us to love Hi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en our eyes Lor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want to see Jes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84640" y="633240"/>
            <a:ext cx="468432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rly in the mor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r song shall rise to Th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67880" y="633240"/>
            <a:ext cx="611820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Holy, Holy, Ho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God Al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hy works shall praise Thy n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arth and sky and 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, holy, ho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iful and might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in three Person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ssed Trin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4280" y="633240"/>
            <a:ext cx="79272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urely The Pres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,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feel His mighty power, and His gr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an hear the brush of angel’s wing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see glory coming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ely the presence of the Lord is in this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09-20T05:59:46Z</dcterms:modified>
  <cp:revision>25</cp:revision>
  <dc:subject/>
  <dc:title>No Slide Title</dc:title>
</cp:coreProperties>
</file>