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69C-B17C-442A-A6FF-4BA70459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78A-6CFB-45F5-9008-1A5806A2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D7B-57A9-4FBA-A267-06BED758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646-97BA-4F59-B062-A8564EF0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0B6-B96B-4EF7-A957-DE98B21B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513-4743-4311-9CDF-9F97620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F05-56A3-4169-B656-9620ED99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C22-8319-4815-A274-1C73AB0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961-65B9-456C-A9F7-E0A8ACE4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C1DD-C5BC-4BF1-8EAE-376EB1F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55D-69A1-4DE8-8FBA-DF5A499E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5819-FD93-43D6-A2D0-76596BF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74A-EB7B-438A-9408-EB2579B52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62320" y="633240"/>
            <a:ext cx="8331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wesome In This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come into your presence, past the gates of prai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o your sanctuary, ‘till we’re standing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look upon your counten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ee the fullness of Your gr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can only bow down and say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 Abba Fat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worthy of all praise, to you our lives we ra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9120" y="633240"/>
            <a:ext cx="5551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tiphonal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ighty God (almight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 alone (in You a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ur delight (is our de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holy God (oh hol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t our voice (and lift our v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ing your praise (to sing your pra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5880" y="633240"/>
            <a:ext cx="78998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 You are my Lord..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umbly at His feet I bow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ldly pleasures all forsak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me Jesus, take me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ke me, Savior, wholly thin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 me feel the Holy Spiri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ly know that Thou art 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rd, I give myself to the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ll me with Thy love and pow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t thy blessing fall o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feel the sacred fla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the joy of full salvation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ry, glory to His n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13000" y="633240"/>
            <a:ext cx="663192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 no one join me, still I will foll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81560" y="633240"/>
            <a:ext cx="78998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14320" y="633240"/>
            <a:ext cx="78328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46:45Z</dcterms:modified>
  <cp:revision>22</cp:revision>
  <dc:subject/>
  <dc:title>No Slide Title</dc:title>
</cp:coreProperties>
</file>