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763-6A3B-499E-A9D5-65AE7D49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D72D-7CE6-40C4-B9B6-AE47E832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3914-C915-4332-BDD8-353D76E8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622C-A40D-40F7-9E5A-6E190D40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AF9F-634D-40B7-9618-9998B732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41B1-5A6F-4204-8C1E-2639DBD0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62CD-746C-4C5C-9995-4EEDF725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89A8-0F03-492E-BA0C-C06EA8D4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477D-57A3-4749-BF37-B3C1565F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3118-9716-4CEB-BA82-68E89019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BF08-E8F6-4A40-AF58-049A93C9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7AE4-F7DF-4BA0-9F76-DED88CDF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6CE1-ECCC-474E-B288-1411B04E5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04920"/>
            <a:ext cx="883908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Let the River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the lost man say I am found in Hi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the poor man say I am rich in Him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h, let the river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the blind man say I can see aga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the dead man say I am born aga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the river flow (2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the river flow, let the river flow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ly Spirit come, and move in pow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the river flow (echo), let the river flow (echo)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 the river flow (echo),  let the river f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46720" y="380880"/>
            <a:ext cx="7716960" cy="61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I Could Sing of Your Love For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the mountains and seas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r river flows with love for 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will open up My hea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let the healer set me f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’m happy to be in the truth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I will daily lift my hand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I will always sing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f when your love came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could sing of your love forev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could sing of your love for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80880"/>
            <a:ext cx="861048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Sweet Forgive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oken… in piece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humbly bow before you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attered…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 the weight of s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perat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 fill your arms around m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d hear You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y these words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weet forgiveness, sweet forgiveness (2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10480" cy="61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Sweet Forgive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l my…fear is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lted in this momen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th mercy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cleanse from my 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fragrance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f freedom fill my sense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 I hear You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y these words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weet forgiveness, sweet forgiveness (2x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good it is… to be for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good it is… to be set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152280"/>
            <a:ext cx="8610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rms of L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sing a simple song of lov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o my Savior, to my Je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’m grateful for the things you’ve don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y loving Savior, oh precious Je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y heart is glad that you’ve called me your own, there’s no place I’d rather be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an in your arms of lov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your arms of lov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lding me still.. holding me nea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your arms of 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3366"/>
            </a:gs>
            <a:gs pos="100000">
              <a:srgbClr val="00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69800" y="633240"/>
            <a:ext cx="49186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ll That Is Within 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 Lord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, I want to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kn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all my hear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my soul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mind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all of my strength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(know, love, serve, s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22:52:38Z</dcterms:created>
  <dc:creator>Todd McDonald</dc:creator>
  <dc:description/>
  <dc:language>en-US</dc:language>
  <cp:lastModifiedBy>Todd McDonald</cp:lastModifiedBy>
  <dcterms:modified xsi:type="dcterms:W3CDTF">2000-10-31T02:17:53Z</dcterms:modified>
  <cp:revision>43</cp:revision>
  <dc:subject/>
  <dc:title>No Slide Title</dc:title>
</cp:coreProperties>
</file>