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2B0-C84B-4A51-82AE-420948C0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550-3A28-4067-9814-8BB8BB2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53F-4C44-4F11-A163-F18F144F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CF41-352F-4750-8C13-9A9CBD97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613-6E2A-4C48-89F0-DEBA53B3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07F-CF41-4E1F-881A-85ED98A8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554A-05F0-427E-961C-9C772044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CF67-C0EE-4970-82AE-396326FC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C3DC-FB42-4194-AB34-FB2F87A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75E-5FCC-4B05-ADC2-7F18C09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0564-EE78-4FCA-8A24-ED5B9212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74E-6205-40EA-8130-0371B843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A20B-16CF-4348-A6D2-0C92E765B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friend we have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ur sins and griefs to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privilege to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peace we often forfe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needless pain we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because we do not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we trials and temptation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trouble anywhe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never be discourag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find a friend so faithfu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all our sorrows sha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knows our every weaknes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10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n… in piec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humbly bow before you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ttered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weight of s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era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fill your arms around m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80880"/>
            <a:ext cx="861048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y…fear i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lted in this mome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mercy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leanse from my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ragranc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freedom fill my sens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I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for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set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52280"/>
            <a:ext cx="86104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ms of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ing a simple song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y Savior, to my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rateful for the things you’ve d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loving Savior, oh precious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eart is glad that you’ve called me your own, there’s no place I’d rather b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 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ding me still.. holding me n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533520"/>
            <a:ext cx="817560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praises to Your name,  O Lord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to Your name,  O Lo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name is gr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give glory to your nam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30T00:19:19Z</dcterms:modified>
  <cp:revision>40</cp:revision>
  <dc:subject/>
  <dc:title>No Slide Title</dc:title>
</cp:coreProperties>
</file>