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22E-2F9A-4133-A39B-852BF880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DCE-DCDB-4F0E-87F1-99FB81F5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5373-0E96-4E84-813C-9521B13F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45E-5516-4398-9323-9E3E56A1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56D3-2248-4C85-855E-7D00423E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15F2-62A9-48A0-BD9D-4A89036B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E74E-B658-4FDB-9475-F0026C1D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012-BAF7-4C5F-B8A4-B8A95C97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579-2E51-4C93-A81B-6CAB914C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25AA-9990-49DF-BC8B-7E936A34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5E6-7BDE-4B5D-B58E-812113B7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E96-4116-4F37-90FA-5AD4C87B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D4C7-A6FF-4AC9-85D0-1E4D3B2FA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9040" y="685800"/>
            <a:ext cx="8799120" cy="50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Come, Now is the Time to Wo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now is the time to give you hea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to worship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ome, just as you are before your God… C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tongue will confess You are God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ne day every knee will b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till the greatest treasure remains for thos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Who gladly choose You no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45800" y="633240"/>
            <a:ext cx="556344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ore Love, More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Love (more love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Power (more power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of You in my lif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Love (more love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Power (more power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of You in my lif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2240" y="633240"/>
            <a:ext cx="88905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ore Love, More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I will worship You with all of my hear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I will worship You with all of my min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I will worship you with all of my str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You are my Lord (You are my L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s, You are my Lord (You are my Lord)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1880" y="633240"/>
            <a:ext cx="871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et the River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lost man say I am found in Him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poor man say I am rich in Him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h, let the river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blind man say I can see agai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dead man say I am born agai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. Let the river f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5880" y="633240"/>
            <a:ext cx="8425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et the River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, let the river flow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ly Spirit come, and move in power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d let the river flow (echo)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 (echo)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 (echo)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25280" y="633240"/>
            <a:ext cx="74059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hat A Friend We Have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 friend we have in Jesu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ur sins and griefs to bea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 privilege to carr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’rything to Go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what peace we often forfei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what needless pain we bea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because we do not carr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’rything to Go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25280" y="633240"/>
            <a:ext cx="74059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hat A Friend We Have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we trials and temptation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re trouble anywher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should never be discourage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it to the Lor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we find a friend so faithfu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will all our sorrows shar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sus knows our every weaknes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it to the Lor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46800" y="633240"/>
            <a:ext cx="756288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hat A Friend We Have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e we weak and heavy lade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mbered with a load of care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cious Savior still our refug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it to the Lor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thy friends despise forsake the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ke it the Lord in pray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His arms He’ll take and shield the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u wilt find a solace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25280" y="633240"/>
            <a:ext cx="740592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hat A Friend We Have In Je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 friend we have in Jesu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our sins and griefs to bea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 privilege to carr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’rything to Go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what peace we often forfei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h what needless pain we bear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because we do not carry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’rything to God in pr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8760" y="633240"/>
            <a:ext cx="87789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ord You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 You are more precious than silver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 You are more costly than go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 You are more beautiful than diamond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nothing I desire compares with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00200" y="633240"/>
            <a:ext cx="805680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ord You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 Your love is deeper than the o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 Your love is wider than the 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 Your love encompasses the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's nothing I want more inside of 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6-11T23:05:23Z</dcterms:modified>
  <cp:revision>7</cp:revision>
  <dc:subject/>
  <dc:title>No Slide Title</dc:title>
</cp:coreProperties>
</file>