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D77F-8B79-468D-88BC-52796102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099-4CF2-4835-B1A1-2AFEC7CB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8D6-3466-433C-A39D-C26E1389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B10-36F8-42C2-B9D5-73257268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C452-F21E-4D6B-9489-9682F84D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9D1-3D01-4D84-948A-030A62F5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12A9-75AF-4DB6-88B4-4B045937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23E4-4400-4EDB-BF84-8CFD0DD7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151-EFBD-4264-A9E4-2C0CBF59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7CC-836A-4A5F-90F4-C8A308FB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DBA-0977-41E8-B0EE-1972CD43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60B-63E1-4DFC-8879-D55A6DA4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EDD3-AF3C-4FE8-9AF4-0672F709C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4200" y="304920"/>
            <a:ext cx="83523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rd I Lift Your Name on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I lift your name on hig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I love to sing your pra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so glad You’re in my lif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so glad You came to save U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me from heaven to earth to show the wa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earth to the cross, my debt to pa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cross to the gra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grave to the sk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I lift your name on hig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19240" y="609480"/>
            <a:ext cx="534852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Because He L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cause He liv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can face 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cause He live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fear is g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cause I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holds the futu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d life is worth the liv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ust because He li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633240"/>
            <a:ext cx="87789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pl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tillness you are ther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hour I wait, only for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633240"/>
            <a:ext cx="86104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reaching for the highest goa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 might receive the pr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ing onward, pushing every hindrance asid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my wa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61048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rms of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ing a simple song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my Savior, to my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grateful for the things you’ve do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loving Savior, oh precious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heart is glad that you’ve called me your own, there’s no place I’d rather b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 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lding me still.. holding me nea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533520"/>
            <a:ext cx="8610840" cy="53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Jesus, Lover of My So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, lover of my sou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esus, I will never let you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n me  from the miry cl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 my feet upon a rock, now I know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love you, I need yo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ough my world my f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ll never let you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Savior, my closest friend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worship you until the very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10-11T03:58:31Z</dcterms:modified>
  <cp:revision>35</cp:revision>
  <dc:subject/>
  <dc:title>No Slide Title</dc:title>
</cp:coreProperties>
</file>